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28DB-CCEC-41CD-9CCB-D45396B96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EA24-E2F3-426E-949D-64FEA0317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BAF-E25E-48F6-8A4C-F5AE63CC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C2B6-80DE-4D1E-8CEC-301F5509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6276-55EA-4CF9-AD43-3302D747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FB6D-3658-4ECB-99FE-BA738836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96A-71D3-4AEB-A8D4-AEFCD8D3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4DE-1DB3-4350-B0D5-549080EC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9F9-25D5-4B64-BA5E-6A685271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EEC6-EF23-4D94-AC02-0B31C1B7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7A2-8748-459F-8180-E0C421E7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307-616E-409F-95E3-8F97E38C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9E1A-DEF9-41EB-BF48-FE9F1A22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20F3-166F-4961-878E-823B3867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E93C-E20F-4671-81E4-3FC35F65B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985680" y="4241880"/>
            <a:ext cx="2281320" cy="85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3746520" y="3459240"/>
            <a:ext cx="1084320" cy="61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3629160" y="5111640"/>
            <a:ext cx="146196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102280" y="5556240"/>
            <a:ext cx="146196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6564240" y="5167440"/>
            <a:ext cx="146232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6778800" y="4307040"/>
            <a:ext cx="1298520" cy="52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5083200" y="4649760"/>
            <a:ext cx="1197000" cy="425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1447920" y="2163600"/>
            <a:ext cx="2280960" cy="85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611360" y="2230560"/>
            <a:ext cx="1763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ource (sentence where you saw the word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935520" y="3591000"/>
            <a:ext cx="7696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WOR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1098720" y="4319640"/>
            <a:ext cx="9712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5322960" y="4713120"/>
            <a:ext cx="7556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805200" y="5232240"/>
            <a:ext cx="11224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Word Famili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6929280" y="4394160"/>
            <a:ext cx="10177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Part of Speec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6929280" y="5232240"/>
            <a:ext cx="731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tem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5405400" y="5613480"/>
            <a:ext cx="8812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rigi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3741840" y="2946240"/>
            <a:ext cx="358560" cy="53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4401720" y="3022560"/>
            <a:ext cx="38916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4724280" y="2570040"/>
            <a:ext cx="2281320" cy="85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5329080" y="1744560"/>
            <a:ext cx="146232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5303880" y="3625920"/>
            <a:ext cx="146196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4862520" y="2668680"/>
            <a:ext cx="11858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efinition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5556240" y="1820880"/>
            <a:ext cx="9208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ynonym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5632560" y="3713040"/>
            <a:ext cx="9064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ntonym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>
            <a:off x="6084720" y="236052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6035760" y="3427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 flipH="1">
            <a:off x="3271680" y="3921120"/>
            <a:ext cx="52560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4692600" y="3976560"/>
            <a:ext cx="73044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5935680" y="5104800"/>
            <a:ext cx="625320" cy="32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2"/>
          <p:cNvSpPr/>
          <p:nvPr/>
        </p:nvSpPr>
        <p:spPr>
          <a:xfrm>
            <a:off x="5713560" y="507528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 flipV="1">
            <a:off x="6243480" y="462276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4"/>
          <p:cNvSpPr/>
          <p:nvPr/>
        </p:nvSpPr>
        <p:spPr>
          <a:xfrm flipH="1">
            <a:off x="4800240" y="5029200"/>
            <a:ext cx="22860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3:59:51Z</dcterms:created>
  <dc:creator>Kimberley Chandler</dc:creator>
  <dc:description/>
  <dc:language>en-US</dc:language>
  <cp:lastModifiedBy>Kimberley Chandler</cp:lastModifiedBy>
  <dcterms:modified xsi:type="dcterms:W3CDTF">2011-06-02T09:47:45Z</dcterms:modified>
  <cp:revision>3</cp:revision>
  <dc:subject/>
  <dc:title>Literature Web - Full Form</dc:title>
</cp:coreProperties>
</file>